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0D22-0CAC-43BE-A1E1-B8AB0F9D6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AD9E-A167-41FF-882D-C123319B4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F4A4-C02A-46A4-9786-D63E8A214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FA1D-0DDF-4EEF-A3B8-F66E04CBA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A4A43-8E76-4757-A6AB-0F00BD54A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60A7F-ABFE-4F49-996D-18D831F0A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714EA-F2A7-4C94-BDD8-8CBF65D32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34ACD-A91D-48BB-ACC9-9B2D8C345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46AAF-7B17-49CD-8A1F-C9451AE0E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F23C1-8CE4-4660-B98D-61DAC945A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7C8BB-0C5C-4A7A-81E9-0E2AF12D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850E-2F08-49E8-AD2B-42A6B4526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2B812-5F71-4C6A-B246-142386C0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FC811-D534-4292-9DFC-28CEA4A1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2C941-92A7-463F-A6A7-513EF33FF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332EE-1A45-417B-9817-95C2E3333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D143B-3B9F-4827-B43F-43D2EF698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8683A-A913-41FC-81AE-EA0CC1D49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B08F4-A5E5-4563-91C6-46752B47E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C813E-A2B6-479F-A63B-026295762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F72CA-4FD3-40E0-BCE8-E658B0D64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601EC-1D28-4BF0-9282-31217D117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DF82-0AF5-412C-BC77-D8180C98B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9863C-0563-455E-B4C5-353EDBE6D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794F8-3608-44C7-8095-0C84C33EC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4CE16-F4FC-411D-86CF-446E8B072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31F1E-88FE-4454-8A64-3A927DCD7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54568-4AA3-45FC-86A1-0DCF37D5B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4BDDB-9216-4167-A47E-9451B3084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11139-18FF-4B0F-8FED-1F07B201E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E7880-5B17-4F2E-8198-8441944B3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EFA41-71D0-415F-8E08-FC7686FCF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2052F-6AC9-4211-A61D-DB308846A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0068-AB34-404F-9E01-8EB73C3E4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8BB24-2ED2-4FFF-B043-9D5F5A8DD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5D914-2B5A-4A9A-A9B2-3B9AC69C4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8F51F-562D-4A3B-A9C0-B919F59C7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71405-ADB1-471F-9117-3ABE39B3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17F6F-24A9-41B3-98BF-8E02CA592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D813F-86F4-4814-89CC-DF5EECD7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89C6C-0C0B-4C52-A3D4-FAB116612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25612-16CD-46D2-A59A-AF1334ED8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C4D0A-F05A-4AAA-9621-D5CAED120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5669C-C7D7-499C-B75B-8391809D8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1511-8686-4067-8B05-986CE7772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4005F-5FB8-4DDE-934D-B5DDD17C9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693C88-492D-406A-9049-14CB37CDF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21986-F217-43A0-B87E-F6860D435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799C5D-5C74-42D5-8A15-C35F7D1E2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0590CD-C641-4230-9AD0-3705014A1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1655A-A530-48E0-BFAA-29634EF89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A76D33-70B7-49CF-8994-D41E9DDC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41E935-4E62-4898-B89A-D263914E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0F335-4C92-45B7-B557-DABEC2096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504CF1-A3F4-47AD-AF18-79B8FAF32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2AB3-CE2F-4C86-BD79-783F6E193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7B469-E04E-44C7-95B9-8D412679F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1CE890-C2B8-41A2-99FD-2A8B0A4ED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34A2E2-4B43-406B-96FD-74C5A28DA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10A4B-AEDC-4E94-8029-31A64693F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9B0869-E1DC-4D94-9265-05D511179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6F32EE-C679-4B2D-9171-91FCEA12F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AD75BD-0358-4852-9A22-65432BC55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D84AC-9622-4914-B243-50E54EB1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08062C-1BF4-4FCD-B596-C22A1BE6D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75F272-C068-42E5-A406-FF61D52C1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B14A-138B-4A50-8A82-115FC43E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BAC6BA-54ED-4CA9-95DC-695359C43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CDBE64-BB9C-4B4A-9135-8C9E644F2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EDD604-9A47-4339-8501-8A948B295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496E05-50EB-47F5-A6DB-828AC33B5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ACDCDB-975E-4BF4-80BD-E6825454A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0299F3-0474-4B68-A809-423D7A6FD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E6A58F-D4E1-4639-94CC-FB6E68041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2EA2CE-8D8E-476E-8CC6-F1C1AF649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319AAB-79E9-4FFA-8396-922D80765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36F460-4C83-499F-9837-123BBE85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568D-0985-4CEC-9B2E-4A98418A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DE0337-7630-4AC9-B247-40429B04A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7C8C90-A968-46FC-9992-86FF7576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084CE5-E65C-43E0-B2EE-323CC742F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309436-1E71-4613-807C-62DB1EA72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6636A7-2502-4F43-AD41-D8B88FA4D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9838-1955-47D0-B183-5EFA258B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28C73-B3F9-4E1B-BEAC-EC89B643452E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FECFC-4F34-4F72-8F75-D9A4A681D25E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4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65A7A-CFCF-42E6-A525-19EE4AC58CBD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1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25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E79B4-0852-461E-8FD3-54C9B9ED7C5E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9D0A0-CD09-4F5B-B7DD-16ED9C71781A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15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2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682CE-9A67-4790-ACA8-4DFABD1650DC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5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1605A-AEE0-40EB-9D6B-399A74F51AC3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55560" y="1484280"/>
            <a:ext cx="7772400" cy="187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GB" sz="2000" spc="-1" strike="noStrike">
                <a:solidFill>
                  <a:srgbClr val="ffffff"/>
                </a:solidFill>
                <a:latin typeface="Candara"/>
              </a:rPr>
              <a:t>RESCAP-MED Capacity Development Workshop</a:t>
            </a: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Candara"/>
              </a:rPr>
              <a:t>Health Policy Evaluation</a:t>
            </a: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Candara"/>
              </a:rPr>
              <a:t>Amman, Jordan</a:t>
            </a: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Candara"/>
              </a:rPr>
              <a:t>3-6 June 2013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655560" y="3933360"/>
            <a:ext cx="77724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ndara"/>
              </a:rPr>
              <a:t>Shahaduz Zaman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ndara"/>
              </a:rPr>
              <a:t>Newcastle  University, UK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37" name="Picture 5" descr="http://research.ncl.ac.uk/media/sites/researchwebsites/rescapmed/EUlogo.jpg"/>
          <p:cNvPicPr/>
          <p:nvPr/>
        </p:nvPicPr>
        <p:blipFill>
          <a:blip r:embed="rId1"/>
          <a:stretch/>
        </p:blipFill>
        <p:spPr>
          <a:xfrm>
            <a:off x="262080" y="244440"/>
            <a:ext cx="811080" cy="53028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7" descr="http://research.ncl.ac.uk/media/sites/researchwebsites/rescapmed/FP7logo2.jpg"/>
          <p:cNvPicPr/>
          <p:nvPr/>
        </p:nvPicPr>
        <p:blipFill>
          <a:blip r:embed="rId2"/>
          <a:stretch/>
        </p:blipFill>
        <p:spPr>
          <a:xfrm>
            <a:off x="1073160" y="243000"/>
            <a:ext cx="695160" cy="5302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" descr=""/>
          <p:cNvPicPr/>
          <p:nvPr/>
        </p:nvPicPr>
        <p:blipFill>
          <a:blip r:embed="rId3"/>
          <a:stretch/>
        </p:blipFill>
        <p:spPr>
          <a:xfrm>
            <a:off x="6732720" y="243000"/>
            <a:ext cx="2187360" cy="8715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6" descr="newcastle_master_col"/>
          <p:cNvPicPr/>
          <p:nvPr/>
        </p:nvPicPr>
        <p:blipFill>
          <a:blip r:embed="rId4"/>
          <a:stretch/>
        </p:blipFill>
        <p:spPr>
          <a:xfrm>
            <a:off x="365040" y="5732640"/>
            <a:ext cx="28069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To understand the basic concepts of health policy making and implementation process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To identify and analyse different stakeholders in policy making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To understand health policy making in the globalizing world and the role of national and international players in the process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To understand the cultural aspects of health and health policy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To describe the health policy analysis framework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Understand the challenges of health policy implementation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Compare health policy situation between different developing countries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andara"/>
              </a:rPr>
              <a:t>Learning objectives of the workshop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Health Policy: Basic Concept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Health policy making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Agenda setting process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Stakeholder analysi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1</a:t>
            </a:r>
            <a:r>
              <a:rPr b="0" lang="en-GB" sz="3200" spc="-1" strike="noStrike" baseline="30000">
                <a:solidFill>
                  <a:srgbClr val="ffffff"/>
                </a:solidFill>
                <a:latin typeface="Candara"/>
              </a:rPr>
              <a:t>st</a:t>
            </a: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  Day 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Health policy in the globalizing world 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Culturally competent health policy: Developing country contex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Health Policy in the context of political crisis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Role of research in health policy making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2</a:t>
            </a:r>
            <a:r>
              <a:rPr b="0" lang="en-GB" sz="3200" spc="-1" strike="noStrike" baseline="30000">
                <a:solidFill>
                  <a:srgbClr val="ffffff"/>
                </a:solidFill>
                <a:latin typeface="Candara"/>
              </a:rPr>
              <a:t>nd</a:t>
            </a: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 Day 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Health Policy Analysis Framework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Case Studies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Health Policy Situation: Palestine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Health Policy Situation: Syria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Health Policy Situation: Jordan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Policy Implementation: Experiences from Jordan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Policy brief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Panel Discussion and Q &amp; A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3</a:t>
            </a:r>
            <a:r>
              <a:rPr b="0" lang="en-GB" sz="3200" spc="-1" strike="noStrike" baseline="30000">
                <a:solidFill>
                  <a:srgbClr val="ffffff"/>
                </a:solidFill>
                <a:latin typeface="Candara"/>
              </a:rPr>
              <a:t>rd</a:t>
            </a: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 Day 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Group reading of selected health policy evaluation paper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Presentations of the group reading and Q&amp;A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Closing remarks and Evaluation of the workshop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4</a:t>
            </a:r>
            <a:r>
              <a:rPr b="0" lang="en-GB" sz="3200" spc="-1" strike="noStrike" baseline="30000">
                <a:solidFill>
                  <a:srgbClr val="ffffff"/>
                </a:solidFill>
                <a:latin typeface="Candara"/>
              </a:rPr>
              <a:t>th</a:t>
            </a: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 Day 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457200" y="242100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Shahaduz Zaman, Newcastle University, UK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Motasem Hamdan, Palestine, Al-Quds University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Abdullatif Husseini, Palestine, Birzeit University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Fouad Fouad, Syria, American University of Beirut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73e87"/>
                </a:solidFill>
                <a:latin typeface="Candara"/>
              </a:rPr>
              <a:t>Yousef Khader</a:t>
            </a: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, Jordan, Jordan University of Science and Technology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Musa Ajlouni, </a:t>
            </a: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Jordan, Jordan University of Science and Technology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Riyad Amin Okour, Jordan, Ministry of Health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Jamal Abu Saif, Jordan, Ministry of Health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ndara"/>
              </a:rPr>
              <a:t>Facilitators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Start on time—End on tim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Maintain a flexible, responsive schedule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Only one person talks at a tim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Any question is a good question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Cell phones are turned off during session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ndara"/>
              </a:rPr>
              <a:t>Some group norms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Enjoy the workshop </a:t>
            </a: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	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1T10:17:01Z</dcterms:created>
  <dc:creator>nsz4</dc:creator>
  <dc:description/>
  <dc:language>en-US</dc:language>
  <cp:lastModifiedBy>User</cp:lastModifiedBy>
  <dcterms:modified xsi:type="dcterms:W3CDTF">2013-05-31T23:41:13Z</dcterms:modified>
  <cp:revision>8</cp:revision>
  <dc:subject/>
  <dc:title>PowerPoint Presentation</dc:title>
</cp:coreProperties>
</file>